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CA09-80C3-4418-8CC6-FF148943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52AA-F554-4CAE-98BA-6EA51E8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81EE-1CF8-4BFF-8E14-A5056077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A7E-6DCE-447F-B7E7-72646EDD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FC2-B4D9-42BC-B603-54CC269B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38F9-86BF-45E0-B4B5-5F885E43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4ECB-1EF5-458B-AEAC-618C7806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7D6-CFB3-4F8B-B7D9-6C4F84D6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3F5-143F-4356-99AA-CB2E7B2A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2538-426C-4E2D-86CD-8D01F2A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835A-334A-42B6-AE39-C1F3D6A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FC6-7DA8-4B08-8858-EE4FD836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BD10-096E-4D8E-A798-AA61F205991B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4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808920"/>
            <a:ext cx="80722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барбитурате са ултракратким дејством спадају тиопентон натријум, метохекситал натријум и тиамилал натриј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и се користе највише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вођењ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болесника у општу анестезију, а знатно ређе за одржавање анестезије код кратких интервенција, или за продубљивање анестезије изазване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br>
              <a:rPr sz="2800"/>
            </a:b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71476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е особине барбитурата са ултра-кратким дејством су: брз и пријатан увод у анестезију, ретко изазивање повраћања, и чињеница да не долази до сензибилизације миокарда на катехоламине, нити до повећања секреције у респираторним путевим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жељена дејства ових лекова обухватају депресију миокарда и ширење венског система (због чега се смањује минутни волумен срца), депресију дисања и понекад ларингоспаза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75096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вих бензодиазепина, за интравенску анестезију се највише корист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мидазола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ре свега због кратког дејства и растворљивости у води (интравенски препарат као растварач садржи воду, па не иритира зид вене приликом ињекциј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дазолам се, за разлику од осталих интравенских анестетика, брзо метаболише у јетри, тако да му је време полу-елиминације свега 1-2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дазолам се користи пре свега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есну седациј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отребну код краћих, непријатних интервенција. Пацијент не губи свест потпуно, и може реаговати на вербалне команде, док истовремено добро подноси непријатне и болне процедуре (нпр. бронхоскопију, превијање,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612720"/>
            <a:ext cx="8929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ропофол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интравенски анестетик који кратко делује и брзо се метаболише у јетри и другим ткивима до инактивних метаболита. Користи се за увођење пацијената у анестезију, за одржавање анестезије заједно са опиоидима, за свесну седацију и као додатак општој инхалационој анестезији. Добра страна пропофола је антиеметичк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пофол депримира рад срца и дисање, доводећи до хипотензије; међутим, рефлексна тахикардија се не јавља, јер су инхибирани и барорецептори. Поред тога, примена пропофола може бити (додуше врло ретко) удружена са појавом конвулзија. Приликом интравенске примене лек може изазвати надражај зида вене и бол, тако да треба избегавати примену преко мањих в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57120" y="571680"/>
            <a:ext cx="8786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односу на барбитурате и пропофол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томид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езбедн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 за примену, јер не доводи до значајније депресије рада срца или дисања, уз благо ширење коронарних ар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он се, као пропофол, релативно брзо метаболише у јетри (време полу-елиминације око 3 часа), па нема тенденцију нагомилавања код дуже примене. Користи се за увођење пацијената у анестезију, и као додатак анестезији изазваној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е стране етомидата су појава миоклоничких напада код око 42% пацијената, иритација вене на месту примене и пролазна супресија надбубрежне жљезде, која не може одговорити на стрес ослобађањем довољне количине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4200" y="150012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астанак акционог потенцијала у нервним влакнима неопходно је отварање канала за натријум у мембрани влакна. Локални анестетици блокирају канале за натријум са цитоплазматске стране и тако онемогућавају настанак акционог потенцијала, тј. прекидају ширење информација дуж не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и анестетици прво блокирају немијелинизирана и слабо мијелинизирана нервна влакна (Ц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а тек касније дебела, потпуно мијелинизирана влакна (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лакна). Зато се после примене локалних анестетика првенствено губе осећај бола и топлоте, док осећај додира и функција моторних нерава остају најчешће очу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8760" y="1305000"/>
            <a:ext cx="87152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оје две врсте локалних анестет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стр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прокаин, тетрака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мид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лидокаин, бупивакаин, левобупивака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опива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жина дејства локалних анестетика првенствено зав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брзине којом се отклањају са места дејства,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та веома утиче степен вазодилатације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давањем вазоконстриктора (нпр. адреналина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ом анестетику дејство се може значај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дужи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естара траје краће (око 45 минута) и јер 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е псеудохолинестераза из крвне плазме, 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амида нешто дуже (око 1-1.5 час), јер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85840" y="155808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кси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 сензорна вла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 излази из лобање кроз овални отвор и улази у птериго-палатиналну јаму. Део влакана из максиларног нерва одлази у сфенопалатинални ганглион, а из њега излазе три мања нер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зо-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утује дуж носног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птума и излази у усну дупљу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цизив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 на тврдом непцу, инервишући слузокож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г дела тврог неп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ећи 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ролази кроз вели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, и инервише периост и слузокож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ине тврдог непца до кутњ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њи палатинални нерв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ји пролази кроз мањ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 и инервише меко непце и ув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4240" y="21430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максиларног нерва излази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букалну гингиву, периодонцијум и пулпу горњих кутњака, изузев дела првог кутњ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едећа грана максиларног нерв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преткутња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ња грана овог нерва ј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секутиће и гингиву око њи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642960" y="2299680"/>
            <a:ext cx="7643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ндибу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 излази из ов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и улази у инфратемпоралну јам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ећи се на предњу и задњу г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ра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лаз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уги бук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слузокожу образа и гингиву ок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х  кутњака и другог преткутњака.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 гране излазе и тања влакна ко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у кожу об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е г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лаз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нгв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две предње трећине језика, п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не дупље и гингиву са лингвалне ст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е вилице, као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њи алвеоларни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р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 алвеоларни нерв инервише све кутњак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е. Близу менталног отвора, доњ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веоларни нерв се дели на инцизивни нерв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талне нерв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ентални нерв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укалну гингиву и слузокожу од мент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па напред, укључујући кожу доње ус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браде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цизив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нервише прв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, очњак и доње секути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357200"/>
            <a:ext cx="83581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окални анесте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убризгавају у близин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менутих нерава, зависно од зуба на којем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рши поправка, или који се вади. После 5-1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нута анестетик почиње да делује, и мож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чети са интервен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чно се локални анестетик налази у истој ампу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 адреналином, који изазива вазоконстрикциј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порава апсорпцију анестетика са мес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мене, и тиме продужава дејство анестетик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пуле тада морају да садрже и натријум мета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исулфит, редукционо средство које спреч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ју адреналина и губитак његов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а. Дејство локалних анестетика обич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је 30 – 60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57120" y="2161440"/>
            <a:ext cx="8286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локални анестетик убризга у близину неког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х нерав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проводн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јер ће постати неосетљива ц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ласт коју инервише тај нерв, тј. из к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ово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је о болу до мозга); ак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и у ткиво или уз сам зуб који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прављ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филтрацио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зад, примена анестетика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еја или размазивањем по слузокожи се зо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ршна 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8760" y="1785960"/>
            <a:ext cx="8715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ће компликације локалне анестезије 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матологији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ирењ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то се не користе у инфицирано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ив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а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 (ако се повреди артеријски крвни суд игл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еда нер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локада фацијалног нерва грешк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докардит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бог уласка бакетрија у крв прил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е ињекције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станак аритм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особа са болесним срце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8760" y="142884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олико се локални анестетици предозирај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ише од 600 мг прокаина или 400 м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докаина), изазивају промене н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Н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ртоглавица, анксиозност, конфуз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емор, чак и конвулзије)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ардиоваскулар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тахикард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тензија, аритм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к естри могу да изазов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е реа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идима се то дешава изузетно ретко. На св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рећу, између амида и естара не пост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рштена алергија; ако је неко алергичан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и анестетик из групе естара, мож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бедно да прими локални анестетик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рупе амида, и обр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85880" y="1996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ебну токсичност међу локалн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естетицима показуј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бупивака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 са великим афинитетом везује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оводни систем срца, и изазива озбиљ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орске арит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то се данас уместо бупивакаина све 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исте мање токсични лекови, као што с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оптички изомер левобупивакаин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хемијски аналог ропивака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00040" y="25120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блете су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врсти лековити препарати у виду плочица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круглог или овалног облика, глатких, равних или испупчених површина, оштрих или заобљених ивица, који садрже појединачну дозу једне или више лековитих супстанци, а настају компримовањем одређене запремине прашка, микрокристала или грану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43000" y="199692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им главног лека, таблете увек садрже конституенс (прости шећери, скроб или нешто друго) и средство за бубрење (агар или скроб) које омогућава да се таблета после додира са водом распадне и тако ослободи лековиту супстанцу. Поред тога, у таблетама се могу наћи и средства за везивање, клизање, корекцију мириса и укуса, за облагање, бојење и друг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Врст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обложе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раже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тардне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илм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ферв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гвалете и бука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и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лу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агинал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фер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71680" y="1063080"/>
            <a:ext cx="807228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ки гасови (азот-субоксид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) и паре лако испарљивих течности (етар, халотан, енфлуран, изофлуран, севофлуран, десфлуран) који путем инхалације и алвеоло-капиларне мембране доспевају у крвоток, а затим у ЦНС, доводе до депресије активности неурона и анесте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лекуларни механизам њиховог деловања још увек није јасан. Гасови и паре се и уносе и елиминишу преко плућа; само неки од њих (нпр. халотан) се једним делом метаболиш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писивањ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43040" y="27050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cet tablettae      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Uzeti jednu tabletu na 6 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85840" y="1357200"/>
            <a:ext cx="8501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Азот-субокс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је довољно јак анестетик, тако да сам не може да обезбеди потребну дубину анестезије; његово дејство мора да се појача истовременом применом другог инхалационог анестетика (на пример 40% азот-субоксида и 0.5% халотана), опијатних аналгетика (обично фентанила), неуролептика (најчешће дроперидола) или комбинације ових лекова (комбинација фентанила и дроперидола, позната под именом Таламона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је посебно у честој употреб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шта анестезија у којој се као додатак користе неуролептици се назив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"неуролепт-анестезиј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00040" y="500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28760" y="428760"/>
            <a:ext cx="82152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алота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депримира респираторни центар и кардиоваскуларни систем (директна депресија миокарда, инхибиција барорецепторског рефлекса, хипотензија), сензибилише миокард на катехоламине и смањује проток крви кроз коронарне артерије. Такође смањује проток крви кроз бубреге (тиме смањује диурезу), а повећава проток крви кроз мозак и интракранијални притиса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 је изузетно јак анестетик (МАК=0.5%), али га треба примењивати опрезно код особа са обољењима срца, бубрега или повредама 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Халотан се у јетри оксидише, при чему настају токсични метаболити: трифлуоросирћетна киселина, и слободни јони брома и хлора. Поновљене анестезије са халотаном повећавају ризик од настанка хепатитиса, који је редак (1:35.000), али има тешку фор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5880" y="928800"/>
            <a:ext cx="750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флу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лично халотану депримира кардиоваскуларни систем (директна депресија миокарда, хипотензија, али без блокаде барорецепторског рефлекса) и сензибилише миокард на катехоламине. Понекад може изазвати тоничко-клоничке нападе код пацијената у анестезији. Пошто се током његовог метаболизма ослобађа јон флуора, који делује токсично на тубуле бубрега, понекад може доћи до пролазног оштећења функције бубр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5880" y="1000080"/>
            <a:ext cx="77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евофлура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ање растворљив у крви од осталих анестетика из ове групе, тако да му дејство почиње брже. Доводи до вазодилатације и смањења минутног волумена, повећава проток крви кроз мозак и подиже интракранијални притисак. Постоји сумња да у контакту са адсорбенсима за угљен-диоксид, који се налазе у машинама за анестезију, настају материје са нефротоксичним деј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57120" y="599400"/>
            <a:ext cx="8001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у интравенску анестезију постижемо лековима који се примењују интравенским путем, и поседују анестетички ефекат на централни нерв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једничко својство свих интравенских анестетика је липосолубилност, тако да они после убризгавања у вену већ у наредним секундама доспевају до ЦНС-а и постижу високе концентрације у можданом ткиву, које због одличне прокрвљености прима чак ¼ минутног волумена срца. Зато интравенски анестетици веома брзо доводе до губитка с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2000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ђутим, дејство интравенских анестетика трај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атк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ацијенти се пробуде после 15-так минута), јер долази д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ј. враћања лека из можданог ткива у крв, а затим преласка из крви у слабије прокрвљена ткива (мишићно и масн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nezana</cp:lastModifiedBy>
  <dcterms:modified xsi:type="dcterms:W3CDTF">2011-09-12T12:41:25Z</dcterms:modified>
  <cp:revision>79</cp:revision>
  <dc:subject/>
  <dc:title>Slide 1</dc:title>
</cp:coreProperties>
</file>